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3EC4-2D3C-443A-8248-E24BB118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247-18B2-4C0D-A6CC-AACFFE88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28D5-4381-498E-ABC6-5A269DE8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8009-4DA2-4971-86D4-1B4730CB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595-D1BB-48A2-A7C7-65887F20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2118-9DF4-455D-B490-EDA6E3A3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04B-82E0-4385-97E1-C7848166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C41-8598-4EC3-A1D3-004282DA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F001-BD6D-44C6-A60A-7E921989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162B-3FC8-400B-BC11-841AFBA4C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762-47A6-491A-8083-819895AD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F70-CF4E-4461-AA07-E9BC87BB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0E6-4588-4FC4-B15A-F86A63E7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488-FBCF-4D68-84C0-47513502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BBE-8625-42D9-998C-3032A478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779-609C-4BC2-A8F2-A455B4A7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E01-7675-4D98-A54A-93CEF795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2A5-07FA-47E4-ACA6-25C3A3BE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2D9-96E7-46EB-9FA1-5CB7E93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05C-A9CF-44ED-B035-78775F3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89B-8DBE-4466-A909-7BBBF28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EEF-892C-453B-94F1-F6938D6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420-9365-42B0-BA1A-B30277277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hyperlink" Target="http://www.camstudio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49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5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2133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5800" y="3962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58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6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22860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PONSORED BY</a:t>
            </a:r>
            <a:br>
              <a:rPr sz="3200"/>
            </a:b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00200" y="490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MH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14300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</a:rPr>
              <a:t>A SPOKEN TU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68580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85800" y="38480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National Mission on Education</a:t>
            </a:r>
            <a:br>
              <a:rPr sz="2800"/>
            </a:b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6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7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38080" y="3376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Animation and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7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 screen-record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records all activities that you see on your screen in AVI format and allows you to play them back later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14400" y="216216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You can use CamStudio t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demonstrate features of a new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udio-video tutorials for schools /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VI video movies used in user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how how to perform 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onvert AVI files to Flash (SWF)  files and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other 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8"/>
          <p:cNvGrpSpPr/>
          <p:nvPr/>
        </p:nvGrpSpPr>
        <p:grpSpPr>
          <a:xfrm>
            <a:off x="957240" y="5187960"/>
            <a:ext cx="7388280" cy="1146240"/>
            <a:chOff x="957240" y="5187960"/>
            <a:chExt cx="7388280" cy="1146240"/>
          </a:xfrm>
        </p:grpSpPr>
        <p:pic>
          <p:nvPicPr>
            <p:cNvPr id="96" name="TextBox 8" descr=""/>
            <p:cNvPicPr/>
            <p:nvPr/>
          </p:nvPicPr>
          <p:blipFill>
            <a:blip r:embed="rId4"/>
            <a:stretch/>
          </p:blipFill>
          <p:spPr>
            <a:xfrm>
              <a:off x="957240" y="5187960"/>
              <a:ext cx="7388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295280" y="548172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Calibri"/>
                </a:rPr>
                <a:t>The uses of this little known software are limitl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9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0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838080" y="2514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can be used with Microsoft Windows 95, 98, Me, NT 4.0, 2000 or XP vers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The minimum requirements are as follow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00 MHz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 MB of hard-disk space for program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0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n open source software and can be downloaded free of cost from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Go to th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camstudi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25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27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National Mission on Education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hrough 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6002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4575"/>
                </a:solidFill>
                <a:latin typeface="Arial"/>
              </a:rPr>
              <a:t>An MHRD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29:00Z</dcterms:modified>
  <cp:revision>28</cp:revision>
  <dc:subject/>
  <dc:title>How to use CamStudio</dc:title>
</cp:coreProperties>
</file>