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BC3E-7AC2-404F-A496-C4B660B05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34A0-8BF2-4BD2-B1CD-3BCE74FF5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5502-98C2-48F8-9D08-9883FE063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59F5-33B0-4F99-8B32-C563726EC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E225-D459-447A-B013-9AE4F07C8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364F-4C40-414E-8939-F0AECF269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176A-1A0C-4B5F-9650-54992D65A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F3A-9AD5-4341-AA75-BF2B9DBF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061-BCF4-43A6-B60B-0D87BA31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0FC-2A4A-422A-B06B-A315BC69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A91-8C08-43A8-8CEC-8262736E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910-4D65-42A2-961C-5CBBADCA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79F-B3A3-46BF-B965-200F8EF2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747-0955-46CD-8E28-ED2C8DFB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E2F-744A-4A5E-9FA6-75EF950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483-8FAB-47A8-8445-310C1FCB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499-EFA7-4992-AF8F-935229D6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304-D72C-4559-A433-CC263617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AAB-CBCB-4473-B6F2-03C8547E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5669-AD7D-49EE-A687-7763BF243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crosoft.com/download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68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8580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Rectangle 1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" y="6854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A SPOKEN TUTORI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8580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85800" y="525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sakshat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685800" y="3048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lk to a Teacher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85800" y="4267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Mission o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8580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7919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5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guj.bmp"/>
          <p:cNvPicPr/>
          <p:nvPr/>
        </p:nvPicPr>
        <p:blipFill>
          <a:blip r:embed="rId1"/>
          <a:stretch/>
        </p:blipFill>
        <p:spPr>
          <a:xfrm>
            <a:off x="1295280" y="5500800"/>
            <a:ext cx="1243080" cy="54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hin.bmp"/>
          <p:cNvPicPr/>
          <p:nvPr/>
        </p:nvPicPr>
        <p:blipFill>
          <a:blip r:embed="rId2"/>
          <a:stretch/>
        </p:blipFill>
        <p:spPr>
          <a:xfrm>
            <a:off x="4233960" y="5505480"/>
            <a:ext cx="102384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pun.bmp"/>
          <p:cNvPicPr/>
          <p:nvPr/>
        </p:nvPicPr>
        <p:blipFill>
          <a:blip r:embed="rId3"/>
          <a:stretch/>
        </p:blipFill>
        <p:spPr>
          <a:xfrm>
            <a:off x="6372360" y="5411880"/>
            <a:ext cx="1704960" cy="547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6"/>
          <p:cNvSpPr/>
          <p:nvPr/>
        </p:nvSpPr>
        <p:spPr>
          <a:xfrm>
            <a:off x="914400" y="4659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poken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iitb_logo.jpg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7"/>
          <p:cNvSpPr/>
          <p:nvPr/>
        </p:nvSpPr>
        <p:spPr>
          <a:xfrm>
            <a:off x="6477120" y="4659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A Movie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movie_reel 2.jpg"/>
          <p:cNvPicPr/>
          <p:nvPr/>
        </p:nvPicPr>
        <p:blipFill>
          <a:blip r:embed="rId5"/>
          <a:stretch/>
        </p:blipFill>
        <p:spPr>
          <a:xfrm rot="20280000">
            <a:off x="6342120" y="2393640"/>
            <a:ext cx="183024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tuto.bmp"/>
          <p:cNvPicPr/>
          <p:nvPr/>
        </p:nvPicPr>
        <p:blipFill>
          <a:blip r:embed="rId6"/>
          <a:stretch/>
        </p:blipFill>
        <p:spPr>
          <a:xfrm>
            <a:off x="762120" y="1905120"/>
            <a:ext cx="2368440" cy="27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Rectangle 1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2" descr="mic.jpeg"/>
          <p:cNvPicPr/>
          <p:nvPr/>
        </p:nvPicPr>
        <p:blipFill>
          <a:blip r:embed="rId1">
            <a:grayscl/>
          </a:blip>
          <a:srcRect l="10588" t="13863" r="10588" b="13863"/>
          <a:stretch/>
        </p:blipFill>
        <p:spPr>
          <a:xfrm rot="3000000">
            <a:off x="4020120" y="482040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speaker.jpeg"/>
          <p:cNvPicPr/>
          <p:nvPr/>
        </p:nvPicPr>
        <p:blipFill>
          <a:blip r:embed="rId2"/>
          <a:stretch/>
        </p:blipFill>
        <p:spPr>
          <a:xfrm>
            <a:off x="6019920" y="2887560"/>
            <a:ext cx="2609640" cy="252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headphones.jpg"/>
          <p:cNvPicPr/>
          <p:nvPr/>
        </p:nvPicPr>
        <p:blipFill>
          <a:blip r:embed="rId3"/>
          <a:stretch/>
        </p:blipFill>
        <p:spPr>
          <a:xfrm>
            <a:off x="838080" y="26668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8"/>
          <p:cNvSpPr/>
          <p:nvPr/>
        </p:nvSpPr>
        <p:spPr>
          <a:xfrm>
            <a:off x="1066680" y="4876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set with audio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6477120" y="504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4343400" y="557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iitb_logo.jpg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838080" y="2209680"/>
            <a:ext cx="746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Movie Maker, a component of Microsoft Windows, is an editing software that is available for all the latest Windows version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, XP or V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ownload it free of cost from th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microsoft.com/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37:51Z</dcterms:created>
  <dc:creator>ABC</dc:creator>
  <dc:description/>
  <dc:language>en-US</dc:language>
  <cp:lastModifiedBy>Nancy</cp:lastModifiedBy>
  <dcterms:modified xsi:type="dcterms:W3CDTF">2012-02-17T13:11:21Z</dcterms:modified>
  <cp:revision>57</cp:revision>
  <dc:subject/>
  <dc:title>How to use CamStudio</dc:title>
</cp:coreProperties>
</file>